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11D-300F-45CA-9807-B39C75B4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5CF-1396-48BD-B3BD-CF4538D2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34ED-1F95-4A7B-917C-FC87BA7E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D76-A7A8-4CFB-B7AD-C91B717F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87D-DAF7-47FE-8C04-4C364A7E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600-AA4A-4DEC-859E-88D32762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E09-9302-4587-BEAD-7BA24225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A71-F7AF-4161-89AE-FA308310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D1E5-F63D-4FE5-B2ED-25C01E11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EDD-A9C1-4F1E-9810-E8C94359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885-F1E0-44E3-AF0C-DA84F6B8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F10-DC10-41B2-91A3-C419BE1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078C-6AB1-460C-B6CD-AD168ACEC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79200" y="2938320"/>
            <a:ext cx="9210960" cy="79848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5" descr=""/>
          <p:cNvPicPr/>
          <p:nvPr/>
        </p:nvPicPr>
        <p:blipFill>
          <a:blip r:embed="rId2"/>
          <a:stretch/>
        </p:blipFill>
        <p:spPr>
          <a:xfrm>
            <a:off x="669960" y="1182600"/>
            <a:ext cx="70596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05:56:45Z</dcterms:created>
  <dc:creator>HISD</dc:creator>
  <dc:description/>
  <dc:language>en-US</dc:language>
  <cp:lastModifiedBy>HISD</cp:lastModifiedBy>
  <dcterms:modified xsi:type="dcterms:W3CDTF">2012-11-20T06:00:24Z</dcterms:modified>
  <cp:revision>1</cp:revision>
  <dc:subject/>
  <dc:title>Slide 1</dc:title>
</cp:coreProperties>
</file>